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55DE-2F00-467B-A5D1-CBC9D40B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22B-4B16-42AF-8A24-53F71EFC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CE2-64E5-422F-87E7-BBE412EC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8E9-812D-4734-8C70-965E2660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AB0-813D-4DBC-9AEA-C2CB9B4F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51B-3496-4C27-9C2F-67E1FEBC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D31-486E-410D-BED9-605109FC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DAC-E134-4C96-8D9E-D966A6CB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B11-278E-49F6-8736-86F0287A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999-B67F-4EF3-AEA3-6F5BFD8D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D7C-05A9-4C47-8116-1AC2D5D7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7B4-FB2D-43FA-A6AF-DAF7538D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CCEA-9CD1-47AB-BB14-B64A0FD188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y the wor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d (part of spee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for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d (part of spee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word (part of spee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d -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about the wor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ontext of a text we are us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yond the context of the tex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reason for using the word in part b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positive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negative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pts students to make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e/Fal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base word to a different part of spee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uses by different peo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you ev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2:55:30Z</dcterms:created>
  <dc:creator>lcarpenter</dc:creator>
  <dc:description/>
  <dc:language>en-US</dc:language>
  <cp:lastModifiedBy>lcarpenter</cp:lastModifiedBy>
  <dcterms:modified xsi:type="dcterms:W3CDTF">2012-03-15T19:27:54Z</dcterms:modified>
  <cp:revision>5</cp:revision>
  <dc:subject/>
  <dc:title>accurate</dc:title>
</cp:coreProperties>
</file>